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C17-FDD6-4C23-B489-A6680D82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E6F-E43C-4352-A586-CADACB1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C27-57BD-487E-B921-03138ECC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623-9425-401F-97C4-74EC4199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010-6342-4F40-9228-C9AB0E4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B61-6DB3-4205-A6E4-4A32E0CE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5BB-BC33-4249-AAD3-B6594F2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B6F-605C-4381-A4B1-F51383ED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405-90CB-4BF9-93AD-954FC80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6A2-C23F-4A7B-ACF4-2D09953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F21-A5D4-41D6-9A20-D3BD6B0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3BE-A79D-42CF-80F6-9AFE901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ADE-E448-482F-938D-52E396A7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09880" cy="11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سنابل وزهور تبقـى مليانـ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بيادر وحقـول تبقـى حليان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طاحن بتدور بطعمي المعم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خبز ونار ونور أطيب قربا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572000" cy="89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عناقيـد النـور بكــروم الدنــ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مواسـم ودهــور فيـك بتغـتـن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معصـرة الـدار يا سـر الأس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خمـــر ونـــور نار كاســة قربانــة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70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343400" cy="10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نعمـة للكــل  يا جسم ودما عالأرض بتضــل عربـون الس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بي يسوع  صوبك دربي طل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عم بعطــش وبجــوع أعطـينــي القربان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02:19Z</dcterms:created>
  <dc:creator>SUZANNE.MD</dc:creator>
  <dc:description/>
  <dc:language>en-US</dc:language>
  <cp:lastModifiedBy>HANI SAFI</cp:lastModifiedBy>
  <dcterms:modified xsi:type="dcterms:W3CDTF">2003-04-17T11:12:57Z</dcterms:modified>
  <cp:revision>2</cp:revision>
  <dc:subject/>
  <dc:title>PowerPoint Presentation</dc:title>
</cp:coreProperties>
</file>